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BFB82D-9B6C-422F-99D9-7F6F5454A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004C7-AEF4-48BF-A327-BC0BC6AAE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28DFB-B076-496D-A8CA-89712F500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B98C7-82BC-4EC9-86DA-7087730AA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717E5-8759-4789-9806-2536087FE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8AA03-7C3A-40C2-BCF9-8B3372D88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A165B-453C-4D78-8AEE-A0687A8E5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32888-ADB2-4D6A-BB4A-1700E4DF0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EBAA0-BD37-45B7-B479-28D11EC85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0E9B8-3B09-43C2-BB43-C9D9303DA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EB907-919B-4036-BB54-6B5E72C5F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25F34-59A4-46F1-B7BE-ED96D451F4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06D53-974D-42F7-9725-AD717067FAE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Bookman Old Style"/>
              </a:rPr>
              <a:t>The Struggle for </a:t>
            </a:r>
            <a:br>
              <a:rPr sz="4400"/>
            </a:br>
            <a:r>
              <a:rPr b="1" lang="en-US" sz="4400" spc="-1" strike="noStrike">
                <a:solidFill>
                  <a:srgbClr val="e3ebf1"/>
                </a:solidFill>
                <a:latin typeface="Bookman Old Style"/>
              </a:rPr>
              <a:t>Voting Rights in the South</a:t>
            </a:r>
            <a:endParaRPr b="0" lang="en-US" sz="4400" spc="-1" strike="noStrike">
              <a:solidFill>
                <a:srgbClr val="e3ebf1"/>
              </a:solidFill>
              <a:latin typeface="Arial"/>
            </a:endParaRPr>
          </a:p>
        </p:txBody>
      </p:sp>
      <p:pic>
        <p:nvPicPr>
          <p:cNvPr id="42" name="" descr=""/>
          <p:cNvPicPr/>
          <p:nvPr/>
        </p:nvPicPr>
        <p:blipFill>
          <a:blip r:embed="rId1"/>
          <a:stretch/>
        </p:blipFill>
        <p:spPr>
          <a:xfrm>
            <a:off x="152280" y="4419720"/>
            <a:ext cx="2514600" cy="1874880"/>
          </a:xfrm>
          <a:prstGeom prst="rect">
            <a:avLst/>
          </a:prstGeom>
          <a:ln w="0">
            <a:noFill/>
          </a:ln>
        </p:spPr>
      </p:pic>
      <p:pic>
        <p:nvPicPr>
          <p:cNvPr id="43" name="" descr=""/>
          <p:cNvPicPr/>
          <p:nvPr/>
        </p:nvPicPr>
        <p:blipFill>
          <a:blip r:embed="rId2"/>
          <a:stretch/>
        </p:blipFill>
        <p:spPr>
          <a:xfrm>
            <a:off x="7238880" y="1600200"/>
            <a:ext cx="1866960" cy="2666880"/>
          </a:xfrm>
          <a:prstGeom prst="rect">
            <a:avLst/>
          </a:prstGeom>
          <a:ln w="0">
            <a:noFill/>
          </a:ln>
        </p:spPr>
      </p:pic>
      <p:pic>
        <p:nvPicPr>
          <p:cNvPr id="44" name="" descr=""/>
          <p:cNvPicPr/>
          <p:nvPr/>
        </p:nvPicPr>
        <p:blipFill>
          <a:blip r:embed="rId3"/>
          <a:stretch/>
        </p:blipFill>
        <p:spPr>
          <a:xfrm>
            <a:off x="762120" y="1981080"/>
            <a:ext cx="6324480" cy="2727360"/>
          </a:xfrm>
          <a:prstGeom prst="rect">
            <a:avLst/>
          </a:prstGeom>
          <a:ln w="0">
            <a:noFill/>
          </a:ln>
        </p:spPr>
      </p:pic>
      <p:pic>
        <p:nvPicPr>
          <p:cNvPr id="45" name="" descr=""/>
          <p:cNvPicPr/>
          <p:nvPr/>
        </p:nvPicPr>
        <p:blipFill>
          <a:blip r:embed="rId4"/>
          <a:stretch/>
        </p:blipFill>
        <p:spPr>
          <a:xfrm>
            <a:off x="2743200" y="4268880"/>
            <a:ext cx="3238560" cy="2589120"/>
          </a:xfrm>
          <a:prstGeom prst="rect">
            <a:avLst/>
          </a:prstGeom>
          <a:ln w="0">
            <a:noFill/>
          </a:ln>
        </p:spPr>
      </p:pic>
      <p:sp>
        <p:nvSpPr>
          <p:cNvPr id="46" name=""/>
          <p:cNvSpPr/>
          <p:nvPr/>
        </p:nvSpPr>
        <p:spPr>
          <a:xfrm>
            <a:off x="6172200" y="4876920"/>
            <a:ext cx="2743200" cy="238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Bookman Old Style"/>
              </a:rPr>
              <a:t>Group #2</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Jennifer Bagget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armen Regalado</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aul Schachte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ildred William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Vicki William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Bookman Old Style"/>
              </a:rPr>
              <a:t>Lesson 3</a:t>
            </a:r>
            <a:endParaRPr b="0" lang="en-US" sz="4400" spc="-1" strike="noStrike">
              <a:solidFill>
                <a:srgbClr val="e3ebf1"/>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wo days of exposure to the lesson, students are given another color dot upon entering the classroom that they are to place on the same consensogram.  At this time, some may be indicting a higher level of understanding or knowledge than the first da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1" lang="en-US" sz="2800" spc="-1" strike="noStrike" u="sng">
                <a:solidFill>
                  <a:srgbClr val="ffffff"/>
                </a:solidFill>
                <a:uFillTx/>
                <a:latin typeface="Arial"/>
              </a:rPr>
              <a:t>Liars Don’t Qualify</a:t>
            </a:r>
            <a:r>
              <a:rPr b="0" lang="en-US" sz="2800" spc="-1" strike="noStrike">
                <a:solidFill>
                  <a:srgbClr val="ffffff"/>
                </a:solidFill>
                <a:latin typeface="Arial"/>
              </a:rPr>
              <a:t> reading and reenactment by students.  Students will be given an oral “literacy” test to demonstrate what Blacks had to pass in order to qualify to register to vo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Bookman Old Style"/>
              </a:rPr>
              <a:t>Lesson 4</a:t>
            </a:r>
            <a:endParaRPr b="0" lang="en-US" sz="4400" spc="-1" strike="noStrike">
              <a:solidFill>
                <a:srgbClr val="e3ebf1"/>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ral Project Activity</a:t>
            </a:r>
            <a:r>
              <a:rPr b="0" lang="en-US" sz="3200" spc="-1" strike="noStrike">
                <a:solidFill>
                  <a:srgbClr val="ffffff"/>
                </a:solidFill>
                <a:latin typeface="Arial"/>
              </a:rPr>
              <a:t>:  See notes from lesson 2.  See attachment for directions and rubric for the activity.  This activity will serve as a culminating activity gra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Bookman Old Style"/>
              </a:rPr>
              <a:t>Lesson 5</a:t>
            </a:r>
            <a:endParaRPr b="0" lang="en-US" sz="4400" spc="-1" strike="noStrike">
              <a:solidFill>
                <a:srgbClr val="e3ebf1"/>
              </a:solidFill>
              <a:latin typeface="Arial"/>
            </a:endParaRPr>
          </a:p>
        </p:txBody>
      </p:sp>
      <p:sp>
        <p:nvSpPr>
          <p:cNvPr id="68"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end of the first week of instruction on the Voter’s Rights Movement in the South, students are given a third color dot to place on the consensogram.  There should be no dots of the third color on the lower end of the consensogram, and most if not all dots will be on the higher end of the graph showing that they are learning and have developed an understanding of the events that shaped the movem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 Day Voting</a:t>
            </a:r>
            <a:r>
              <a:rPr b="0" lang="en-US" sz="2400" spc="-1" strike="noStrike">
                <a:solidFill>
                  <a:srgbClr val="ffffff"/>
                </a:solidFill>
                <a:latin typeface="Arial"/>
              </a:rPr>
              <a:t>:  Students will review a present day voter’s application and compare and contrast it to the literacy test.  Teacher will have set up a faux voting booth and registration verification table so that students can experience the present day voting process.  Students will write a reflection regarding their experience using the present day voting process and discuss how it differs from the voting experience prior to 196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Bookman Old Style"/>
              </a:rPr>
              <a:t>Lesson 6</a:t>
            </a:r>
            <a:endParaRPr b="0" lang="en-US" sz="4400" spc="-1" strike="noStrike">
              <a:solidFill>
                <a:srgbClr val="e3ebf1"/>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Lesson</a:t>
            </a:r>
            <a:r>
              <a:rPr b="0" lang="en-US" sz="2800" spc="-1" strike="noStrike">
                <a:solidFill>
                  <a:srgbClr val="ffffff"/>
                </a:solidFill>
                <a:latin typeface="Arial"/>
              </a:rPr>
              <a:t>:  </a:t>
            </a:r>
            <a:r>
              <a:rPr b="1" lang="en-US" sz="2800" spc="-1" strike="noStrike">
                <a:solidFill>
                  <a:srgbClr val="ffffff"/>
                </a:solidFill>
                <a:latin typeface="Arial"/>
              </a:rPr>
              <a:t>Past and Present Pen Pal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ctivity will require internet access with students in groups of two.  A strip of paper will be given to one person in each group with the names of two individuals who were involved in the Voters’ Rights Movement in the South.  Students will portray an individual and communicate via email.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Bookman Old Style"/>
              </a:rPr>
              <a:t>Informal Assessment</a:t>
            </a:r>
            <a:endParaRPr b="0" lang="en-US" sz="4400" spc="-1" strike="noStrike">
              <a:solidFill>
                <a:srgbClr val="e3ebf1"/>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racter Bag:  </a:t>
            </a:r>
            <a:r>
              <a:rPr b="0" lang="en-US" sz="2400" spc="-1" strike="noStrike">
                <a:solidFill>
                  <a:srgbClr val="ffffff"/>
                </a:solidFill>
                <a:latin typeface="Arial"/>
              </a:rPr>
              <a:t>The teacher will create a bag with items that represent a person or event that took place during the movement.  For example, the teacher would place items like a toy horse, a hat (such as the hat worn by Dr. King), a billy club, a shoe, a trench coat, a man’s tie, a ladies purse, and hat.  The teacher will have the students guess what is in the bag before she presents the contents of the bag.  The teacher will take out one item at a time and show it to the students while explaining that the trench coat was worn by Hosea Williams on Bloody Sunday and explain each subsequent item in the bag while telling of its significance to the story of the Voter’s Rights Mov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Bookman Old Style"/>
              </a:rPr>
              <a:t>Resources</a:t>
            </a:r>
            <a:endParaRPr b="0" lang="en-US" sz="4400" spc="-1" strike="noStrike">
              <a:solidFill>
                <a:srgbClr val="e3ebf1"/>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Liars don’t Qualif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Civil Rights Activist Recounts Bloody Sunday” from Tuskegee University Campus Dige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ting Rights Act of 196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Bookman Old Style"/>
              </a:rPr>
              <a:t>Objective</a:t>
            </a:r>
            <a:endParaRPr b="0" lang="en-US" sz="4400" spc="-1" strike="noStrike">
              <a:solidFill>
                <a:srgbClr val="e3ebf1"/>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will develop an understanding of the events that led to the Voting Rights Act of 1965 with 85% accurac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Bookman Old Style"/>
              </a:rPr>
              <a:t>Concept</a:t>
            </a:r>
            <a:endParaRPr b="0" lang="en-US" sz="4400" spc="-1" strike="noStrike">
              <a:solidFill>
                <a:srgbClr val="e3ebf1"/>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ionship between Voting Rights &amp; Human Righ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Bookman Old Style"/>
              </a:rPr>
              <a:t>Standards</a:t>
            </a:r>
            <a:endParaRPr b="0" lang="en-US" sz="4400" spc="-1" strike="noStrike">
              <a:solidFill>
                <a:srgbClr val="e3ebf1"/>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12 Explain the resistance to civil rights in the South between 1954 and 1965. [</a:t>
            </a:r>
            <a:r>
              <a:rPr b="1" lang="en-US" sz="2800" spc="-1" strike="noStrike">
                <a:solidFill>
                  <a:srgbClr val="ffffff"/>
                </a:solidFill>
                <a:latin typeface="Arial"/>
              </a:rPr>
              <a:t>Identify issues and problems in the past</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12 Assess the reasons for and effectiveness of the escalation from civil disobedience to more radical protest in the civil rights movement. [</a:t>
            </a:r>
            <a:r>
              <a:rPr b="1" lang="en-US" sz="2800" spc="-1" strike="noStrike">
                <a:solidFill>
                  <a:srgbClr val="ffffff"/>
                </a:solidFill>
                <a:latin typeface="Arial"/>
              </a:rPr>
              <a:t>Marshal evidence of antecedent circumstances</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Bookman Old Style"/>
              </a:rPr>
              <a:t>Essential Question</a:t>
            </a:r>
            <a:endParaRPr b="0" lang="en-US" sz="4400" spc="-1" strike="noStrike">
              <a:solidFill>
                <a:srgbClr val="e3ebf1"/>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s the right to vote an important component in American democracy and for human rights world wi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Bookman Old Style"/>
              </a:rPr>
              <a:t>Special Education Modifications/Accommodations</a:t>
            </a:r>
            <a:endParaRPr b="0" lang="en-US" sz="4000" spc="-1" strike="noStrike">
              <a:solidFill>
                <a:srgbClr val="e3ebf1"/>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ak assignments into segments of shorter task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e the number of concepts introduced at any one ti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consistent review of any lesson before introducing new inform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Bookman Old Style"/>
              </a:rPr>
              <a:t>Vocabulary</a:t>
            </a:r>
            <a:endParaRPr b="0" lang="en-US" sz="4400" spc="-1" strike="noStrike">
              <a:solidFill>
                <a:srgbClr val="e3ebf1"/>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ndfather Claus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ize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ting Rights Act of 1965</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ody Sunday</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ack Bel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vil Rights Ac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6th Amendmen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eracy Tes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mund Pettus Brid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Bookman Old Style"/>
              </a:rPr>
              <a:t>Lesson 1</a:t>
            </a:r>
            <a:endParaRPr b="0" lang="en-US" sz="4400" spc="-1" strike="noStrike">
              <a:solidFill>
                <a:srgbClr val="e3ebf1"/>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students enter the classroom, they are given one sticky dot of the same color.  They are to place their dot over the number that best represents their level of knowledge of the Voter’s Rights Movement in the South.  The consensogram should actually be a bar graph when students are finished placing their dots.  See Example 1 attachmen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Bookman Old Style"/>
              </a:rPr>
              <a:t>Lesson 2</a:t>
            </a:r>
            <a:endParaRPr b="0" lang="en-US" sz="4400" spc="-1" strike="noStrike">
              <a:solidFill>
                <a:srgbClr val="e3ebf1"/>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deo</a:t>
            </a:r>
            <a:r>
              <a:rPr b="0" lang="en-US" sz="3200" spc="-1" strike="noStrike">
                <a:solidFill>
                  <a:srgbClr val="ffffff"/>
                </a:solidFill>
                <a:latin typeface="Arial"/>
              </a:rPr>
              <a:t>: </a:t>
            </a:r>
            <a:r>
              <a:rPr b="1" lang="en-US" sz="3200" spc="-1" strike="noStrike">
                <a:solidFill>
                  <a:srgbClr val="ffffff"/>
                </a:solidFill>
                <a:latin typeface="Arial"/>
              </a:rPr>
              <a:t>“A Time For Justice”</a:t>
            </a:r>
            <a:r>
              <a:rPr b="0" lang="en-US" sz="3200" spc="-1" strike="noStrike">
                <a:solidFill>
                  <a:srgbClr val="ffffff"/>
                </a:solidFill>
                <a:latin typeface="Arial"/>
              </a:rPr>
              <a:t>; students will take Cornell Notes during the video.  Teacher will provide powerpoint notes on the Voter’s Rights Struggle.  As students take Cornell Notes for a grade, they will also use these notes to create their Voting Rights Mural Proje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3T04:57:32Z</dcterms:created>
  <dc:creator>Carmen Regalado</dc:creator>
  <dc:description/>
  <dc:language>en-US</dc:language>
  <cp:lastModifiedBy>Charzetta Richardson</cp:lastModifiedBy>
  <dcterms:modified xsi:type="dcterms:W3CDTF">2007-07-14T16:56:55Z</dcterms:modified>
  <cp:revision>36</cp:revision>
  <dc:subject/>
  <dc:title>The Struggle  for Voting Rights  </dc:title>
</cp:coreProperties>
</file>